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33C-FCA8-48A7-B76D-E8751AFA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D4E-A61B-4D13-8C3B-069A006D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942-F893-4520-806F-82A505F5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132-25CB-4647-A4E0-7B22F05B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7CBB-2AB0-4AC2-97D3-1D3116CF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BD36-DAD9-4107-919E-A5370AD9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C88D-83F2-4A70-8BA5-38868965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E103-8ECE-4585-8127-66AABF28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AE0B-3BFA-4712-A731-9EAA6621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DD11-A06A-4267-9015-634923EA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7886-A294-4D22-8729-C68ADF90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22D-AEDB-484C-8F9B-C5829760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77DB-1994-49DF-8881-5007E9C2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7212-C0CD-45D4-BD2A-2D594F22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A2C5-2AA8-47BF-80ED-DAEA3416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EBFB-33B8-421B-A46E-22561CBB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6DA9-988C-478B-AC20-16D9D987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CF9-A239-4203-ABBF-0AE965A9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F3D-702E-4BFF-944B-8814BF62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8DB-B9B0-4D37-A98C-E3950208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3E8-01F8-4C6E-AFA3-81DBF516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791-B628-4FFA-BFF7-78D53A1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ED8-30AE-4360-B927-518721CB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10B-41DE-459F-9A0F-4BF468B7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4BBE-F4A0-4477-BFAC-2770B1161D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9C71-E37E-40C0-83D9-C3D2A18F13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3816360" cy="3052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716360" y="2421000"/>
            <a:ext cx="3834000" cy="3066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5589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r Trans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5080" y="55832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h nach Trans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endshow"/>
          </p:cNvPr>
          <p:cNvSpPr/>
          <p:nvPr/>
        </p:nvSpPr>
        <p:spPr>
          <a:xfrm>
            <a:off x="7020000" y="6453360"/>
            <a:ext cx="1511280" cy="288720"/>
          </a:xfrm>
          <a:custGeom>
            <a:avLst/>
            <a:gdLst>
              <a:gd name="textAreaLeft" fmla="*/ 18720 w 1511280"/>
              <a:gd name="textAreaRight" fmla="*/ 1492560 w 1511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12949" h="21600">
                <a:moveTo>
                  <a:pt x="0" y="0"/>
                </a:moveTo>
                <a:lnTo>
                  <a:pt x="112949" y="0"/>
                </a:lnTo>
                <a:lnTo>
                  <a:pt x="112949" y="21600"/>
                </a:lnTo>
                <a:lnTo>
                  <a:pt x="0" y="21600"/>
                </a:lnTo>
                <a:close/>
              </a:path>
              <a:path fill="lightenLess" w="112949" h="21600">
                <a:moveTo>
                  <a:pt x="0" y="0"/>
                </a:moveTo>
                <a:lnTo>
                  <a:pt x="112949" y="0"/>
                </a:lnTo>
                <a:lnTo>
                  <a:pt x="111550" y="1400"/>
                </a:lnTo>
                <a:lnTo>
                  <a:pt x="1400" y="1400"/>
                </a:lnTo>
                <a:close/>
              </a:path>
              <a:path fill="darken" w="112949" h="21600">
                <a:moveTo>
                  <a:pt x="112949" y="0"/>
                </a:moveTo>
                <a:lnTo>
                  <a:pt x="112949" y="21600"/>
                </a:lnTo>
                <a:lnTo>
                  <a:pt x="111550" y="20200"/>
                </a:lnTo>
                <a:lnTo>
                  <a:pt x="111550" y="1400"/>
                </a:lnTo>
                <a:close/>
              </a:path>
              <a:path fill="darkenLess" w="112949" h="21600">
                <a:moveTo>
                  <a:pt x="112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550" y="20200"/>
                </a:lnTo>
                <a:close/>
              </a:path>
              <a:path fill="lighten" w="112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mo schließ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22:24:13Z</dcterms:created>
  <dc:creator>Verena</dc:creator>
  <dc:description/>
  <dc:language>en-US</dc:language>
  <cp:lastModifiedBy>Johannes Clauss</cp:lastModifiedBy>
  <dcterms:modified xsi:type="dcterms:W3CDTF">2005-12-05T08:55:06Z</dcterms:modified>
  <cp:revision>9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