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76BE-CB89-4E2E-968D-5B50B2E2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E344-F50C-4EEA-907F-6F439B33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702F-9982-4CB4-B8FE-018BB0E9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7508-73C2-49B2-BCD6-756166C2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452C-9BEF-47C9-94DE-315A2759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4E7E-71B9-431A-915D-19868F4D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44AB-48B0-4582-B298-B16E4F70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2F8B-5ABA-47DB-AA54-73D02127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807-120E-4B78-BBD0-466F0675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ACC0-E83B-4C2E-8DAC-B82F3891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EF66-1343-4ABA-A8D7-98ED5A39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5E57-3FDD-4917-8677-9723F1CD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103E-F9CE-4230-9113-E1FFAF004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8817120" cy="2540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88040" y="1523880"/>
            <a:ext cx="35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xuallaut“ und „Lockruf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160020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3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ktorand</cp:lastModifiedBy>
  <dcterms:modified xsi:type="dcterms:W3CDTF">2005-10-13T14:07:5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