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4FF-DFCC-4CEB-A71D-3F13360D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573-4151-439B-B882-3074C4E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667-15F7-43B9-9578-4581A60C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F60-29FF-49C4-8BD9-0E3D64CD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209-317C-47DC-B727-690D4F2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07D-9E48-4317-88B3-B1810E8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9D9-3C9A-4B25-B448-0B2DF83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56E-DCC3-4AB6-AC92-1805114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3E7-48CB-437D-A105-1708BF1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F71-D6C8-429D-8C37-06BDEBC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B30-7FD3-4107-BA5E-D9967EE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101-D7DD-4F34-BFAA-0A6D462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B694-4638-4D1C-A368-5DC102BF3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430520" cy="479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58360" y="121932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alzlaut“ einer adulten Chinch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34640" cy="254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1440" y="1676520"/>
            <a:ext cx="61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alzlaute“ einer drei -Tage – alten Chinch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0120" y="1752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1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6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