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7E52-00ED-44AC-BA30-2388D854F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FDEC-AEEB-4F96-8C4D-E1E54D70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7B38-5DAA-4E03-90E5-E7F4DD8D8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C67F-A595-4EE1-9209-FD6F58B59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630E-E8D0-4EE2-B1C1-E62D911C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A1BE-9788-4AC5-A067-B34C6A61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23BD-BA45-4623-85CB-749E0327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CCD9-2FFA-4EF8-9DCD-A9780575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E89F-47D2-45CD-A004-2BDD094F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9396-A4D1-4D48-BF76-F4172DAF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7A74-AFF6-4C91-BA61-95221BAB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145D-3600-474E-A365-4EBA7EEF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C614-00E6-4C3A-8035-3B46BF292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320" y="762120"/>
            <a:ext cx="6492600" cy="8003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16680" y="365040"/>
            <a:ext cx="29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itionslaut“ 14-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48320" y="3808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65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ktorand</cp:lastModifiedBy>
  <dcterms:modified xsi:type="dcterms:W3CDTF">2005-10-13T14:03:3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