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A1AC-9D41-4CAD-9BEC-A975F0E9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6623-5898-4944-B93A-44F694C6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5EF5-DD61-4D33-9321-E2C95CC21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941C-800C-4EB3-A348-34EC7691D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8C53-787A-4A5B-9768-2619A9F5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F182-5DD8-4549-8821-E68B205F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7DC3-4170-4A38-8C69-229F70F4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1A09-4C14-4DAD-8AFB-280FBB45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6309-9BA9-4A67-8E20-D2243618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4CB9-C108-4F36-AD52-424663D6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6823-6253-4723-A0C4-8DF446A0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95A4-F27F-4A3C-9B0C-D26CB1C5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1F0D-E7E7-434C-8E42-F23CEB8B1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5797800" cy="8005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0920" y="457200"/>
            <a:ext cx="485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ngtierkontaktlaut“ zehn Einzella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55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ktorand</cp:lastModifiedBy>
  <dcterms:modified xsi:type="dcterms:W3CDTF">2005-10-13T14:02:2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