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7E7-D06B-45A9-AF7E-4DE39F7A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F48-E2BF-433F-AE5E-EDA22BB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9BE-1A57-4501-BF82-B5AB7FA6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FCF-F5F4-4E43-969D-DE0E145B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7AE-C1A1-430B-BDBC-E04AE0C5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04E-A2EF-4543-AE64-0DAE50B9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B48-F4F0-4E70-88F8-8C1B9F4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216-CE3C-4C60-AD2D-64CA0EB8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4CA-B91D-422C-90E9-67DA27DF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FA3-4E91-4D95-AB61-D7A6C981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F73-9E8E-426B-87A1-341579A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D09-6CE3-4BC5-9734-9A88D2B7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C8A-55EA-463E-AF5E-91A6B46E8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15120" cy="604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0080" y="228600"/>
            <a:ext cx="41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rmruf“ mit acht Einzellau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21440" y="29196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8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240" y="2209680"/>
            <a:ext cx="8924760" cy="2897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2360" y="1447920"/>
            <a:ext cx="40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rmruf“ mit fünf Einzellau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72200" y="149868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0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ktorand</cp:lastModifiedBy>
  <dcterms:modified xsi:type="dcterms:W3CDTF">2005-10-13T14:01:3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