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AEEB-267A-435E-8D84-FCA5EDF74098}" type="datetime">
              <a:rPr b="0" lang="de-DE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DBCC-7493-4258-9808-04DA0FAA3FC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D2F0-757B-41D0-ACAB-5D45C5BE45E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613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228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207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613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228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20720" y="720360"/>
            <a:ext cx="781056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613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0228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207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613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0228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20720" y="720360"/>
            <a:ext cx="781056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613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0228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207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613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0228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20720" y="720360"/>
            <a:ext cx="781056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613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0228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207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613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0228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20720" y="720360"/>
            <a:ext cx="781056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20720" y="720360"/>
            <a:ext cx="781056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132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2280" y="161892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207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132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2280" y="3763440"/>
            <a:ext cx="25146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22840" y="376344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2840" y="1618920"/>
            <a:ext cx="381132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0720" y="3763440"/>
            <a:ext cx="78105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rafik 5" descr="ppt-titel_7.png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7"/>
          <p:cNvSpPr/>
          <p:nvPr/>
        </p:nvSpPr>
        <p:spPr>
          <a:xfrm>
            <a:off x="0" y="0"/>
            <a:ext cx="9144000" cy="2598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Picture1.png"/>
          <p:cNvPicPr/>
          <p:nvPr/>
        </p:nvPicPr>
        <p:blipFill>
          <a:blip r:embed="rId3"/>
          <a:stretch/>
        </p:blipFill>
        <p:spPr>
          <a:xfrm>
            <a:off x="5829480" y="569880"/>
            <a:ext cx="2743200" cy="573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0" y="395280"/>
            <a:ext cx="76122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liennummernplatzhalter 3"/>
          <p:cNvSpPr/>
          <p:nvPr/>
        </p:nvSpPr>
        <p:spPr>
          <a:xfrm>
            <a:off x="720720" y="142920"/>
            <a:ext cx="419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374E-32A9-4281-AB1D-FC79DB9EB23C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afik 14" descr="n_neg.png"/>
          <p:cNvPicPr/>
          <p:nvPr/>
        </p:nvPicPr>
        <p:blipFill>
          <a:blip r:embed="rId2"/>
          <a:stretch/>
        </p:blipFill>
        <p:spPr>
          <a:xfrm>
            <a:off x="7888320" y="115920"/>
            <a:ext cx="679320" cy="554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1"/>
          </p:nvPr>
        </p:nvSpPr>
        <p:spPr>
          <a:xfrm>
            <a:off x="1116000" y="142560"/>
            <a:ext cx="3098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Präsentationstitel · 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0" y="395280"/>
            <a:ext cx="76122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iennummernplatzhalter 3"/>
          <p:cNvSpPr/>
          <p:nvPr/>
        </p:nvSpPr>
        <p:spPr>
          <a:xfrm>
            <a:off x="720720" y="142920"/>
            <a:ext cx="419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BA75-36C3-4F43-A28A-DB5883DF6231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Grafik 20" descr="n_neg.png"/>
          <p:cNvPicPr/>
          <p:nvPr/>
        </p:nvPicPr>
        <p:blipFill>
          <a:blip r:embed="rId2"/>
          <a:stretch/>
        </p:blipFill>
        <p:spPr>
          <a:xfrm>
            <a:off x="7888320" y="115920"/>
            <a:ext cx="679320" cy="5540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2"/>
          </p:nvPr>
        </p:nvSpPr>
        <p:spPr>
          <a:xfrm>
            <a:off x="1116000" y="142560"/>
            <a:ext cx="3098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Präsentationstitel · 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0" y="395280"/>
            <a:ext cx="76122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liennummernplatzhalter 3"/>
          <p:cNvSpPr/>
          <p:nvPr/>
        </p:nvSpPr>
        <p:spPr>
          <a:xfrm>
            <a:off x="720720" y="142920"/>
            <a:ext cx="419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3DFC-8C59-4A9A-973A-CF87FD805BC0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afik 12" descr="n_neg.png"/>
          <p:cNvPicPr/>
          <p:nvPr/>
        </p:nvPicPr>
        <p:blipFill>
          <a:blip r:embed="rId2"/>
          <a:stretch/>
        </p:blipFill>
        <p:spPr>
          <a:xfrm>
            <a:off x="7888320" y="115920"/>
            <a:ext cx="679320" cy="554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20720" y="1618920"/>
            <a:ext cx="78105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3"/>
          </p:nvPr>
        </p:nvSpPr>
        <p:spPr>
          <a:xfrm>
            <a:off x="1116000" y="142560"/>
            <a:ext cx="3098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Präsentationstitel · 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20720" y="3203640"/>
            <a:ext cx="7810560" cy="25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Supplementary Vid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zur Dissertation von Andreas Schaup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it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Eph Receptor Clustering is the Central Integrator in Eliciting Graded Kinase-dependent Signaling Responses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tent (please click)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786600" y="1484280"/>
            <a:ext cx="52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supplementary video 1 : confocal time-lapse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792000" y="242100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supplementary video 2 : homo-FRET time-lapse imaging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upplementary video 1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4427640" y="3213000"/>
            <a:ext cx="396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HeLa cells were transfected with wtEphB2-3FKBP-YFP/myr-mCherry and stimulated with AP20187 (250 nM) immediately before start of confocal time-lapse acquisition. Acquisition 1 frame/min. FL intensity is shown. Scale bar, 10 µ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4451040" y="566100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back to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SupplementaryVideo1_wtEphB23FKBP_AP20187.avi" descr=""/>
          <p:cNvPicPr/>
          <p:nvPr/>
        </p:nvPicPr>
        <p:blipFill>
          <a:blip r:embed="rId1"/>
          <a:stretch/>
        </p:blipFill>
        <p:spPr>
          <a:xfrm>
            <a:off x="720720" y="1125360"/>
            <a:ext cx="2736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58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0720" y="720360"/>
            <a:ext cx="78105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upplementary video 2</a:t>
            </a:r>
            <a:endParaRPr b="1" lang="en-US" sz="2400" spc="-1" strike="noStrike">
              <a:solidFill>
                <a:srgbClr val="003a6e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508720" y="2781360"/>
            <a:ext cx="34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COS-7 cells were transfected with kdEphB2-3FKBP-mGFP and stimulated with AP20187 (250 nM) 1 min after start of epiFL time-lapse acquisition (frame 2). Acquisition 1 frame/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FL anisotropy is shown according to color code to the right. Scale bar, 10 µm.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alculation of anisotropy values was carried out by Ola Sabet, MPI Dortmund, Ger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5532120" y="602136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back to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SupplementaryVideo2_kdEphB2-3FKBP_AP20187.avi" descr=""/>
          <p:cNvPicPr/>
          <p:nvPr/>
        </p:nvPicPr>
        <p:blipFill>
          <a:blip r:embed="rId1"/>
          <a:stretch/>
        </p:blipFill>
        <p:spPr>
          <a:xfrm>
            <a:off x="720720" y="1844640"/>
            <a:ext cx="4464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50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5:18:47Z</dcterms:created>
  <dc:creator>haaknakat</dc:creator>
  <dc:description/>
  <dc:language>en-US</dc:language>
  <cp:lastModifiedBy>schaupp</cp:lastModifiedBy>
  <dcterms:modified xsi:type="dcterms:W3CDTF">2011-11-24T17:47:52Z</dcterms:modified>
  <cp:revision>1198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4B08022A81F59429C1B4FD285F0426C</vt:lpwstr>
  </property>
</Properties>
</file>