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CCB2-3F60-4ADD-87A1-77A053AD1660}" type="datetime">
              <a:rPr b="0" lang="de-DE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6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B0DC-E912-49B3-AF22-EAB58112713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2E16-96BF-4A5A-A9B7-A9CC30D6690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613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228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207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613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228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20720" y="720360"/>
            <a:ext cx="781056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613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0228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207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613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0228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20720" y="720360"/>
            <a:ext cx="781056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613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0228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207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613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0228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20720" y="720360"/>
            <a:ext cx="781056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613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0228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207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613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0228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20720" y="720360"/>
            <a:ext cx="781056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20720" y="720360"/>
            <a:ext cx="781056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13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228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207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13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228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6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rafik 5" descr="ppt-titel_7.png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7"/>
          <p:cNvSpPr/>
          <p:nvPr/>
        </p:nvSpPr>
        <p:spPr>
          <a:xfrm>
            <a:off x="0" y="0"/>
            <a:ext cx="9144000" cy="2598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Picture1.png"/>
          <p:cNvPicPr/>
          <p:nvPr/>
        </p:nvPicPr>
        <p:blipFill>
          <a:blip r:embed="rId3"/>
          <a:stretch/>
        </p:blipFill>
        <p:spPr>
          <a:xfrm>
            <a:off x="5829480" y="569880"/>
            <a:ext cx="2743200" cy="573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6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0" y="395280"/>
            <a:ext cx="76122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liennummernplatzhalter 3"/>
          <p:cNvSpPr/>
          <p:nvPr/>
        </p:nvSpPr>
        <p:spPr>
          <a:xfrm>
            <a:off x="720720" y="142920"/>
            <a:ext cx="419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918C-D18E-4B79-BF17-664C25EAF567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Grafik 14" descr="n_neg.png"/>
          <p:cNvPicPr/>
          <p:nvPr/>
        </p:nvPicPr>
        <p:blipFill>
          <a:blip r:embed="rId2"/>
          <a:stretch/>
        </p:blipFill>
        <p:spPr>
          <a:xfrm>
            <a:off x="7888320" y="115920"/>
            <a:ext cx="679320" cy="554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6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1"/>
          </p:nvPr>
        </p:nvSpPr>
        <p:spPr>
          <a:xfrm>
            <a:off x="1116000" y="142560"/>
            <a:ext cx="3098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Präsentationstitel · 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0" y="395280"/>
            <a:ext cx="76122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liennummernplatzhalter 3"/>
          <p:cNvSpPr/>
          <p:nvPr/>
        </p:nvSpPr>
        <p:spPr>
          <a:xfrm>
            <a:off x="720720" y="142920"/>
            <a:ext cx="419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02CB-4EC5-42B0-AAFB-538BF62D811B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Grafik 20" descr="n_neg.png"/>
          <p:cNvPicPr/>
          <p:nvPr/>
        </p:nvPicPr>
        <p:blipFill>
          <a:blip r:embed="rId2"/>
          <a:stretch/>
        </p:blipFill>
        <p:spPr>
          <a:xfrm>
            <a:off x="7888320" y="115920"/>
            <a:ext cx="679320" cy="5540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6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2"/>
          </p:nvPr>
        </p:nvSpPr>
        <p:spPr>
          <a:xfrm>
            <a:off x="1116000" y="142560"/>
            <a:ext cx="3098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Präsentationstitel · 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0" y="395280"/>
            <a:ext cx="76122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liennummernplatzhalter 3"/>
          <p:cNvSpPr/>
          <p:nvPr/>
        </p:nvSpPr>
        <p:spPr>
          <a:xfrm>
            <a:off x="720720" y="142920"/>
            <a:ext cx="419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8651-C415-49E8-A524-6212A8B63F21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Grafik 12" descr="n_neg.png"/>
          <p:cNvPicPr/>
          <p:nvPr/>
        </p:nvPicPr>
        <p:blipFill>
          <a:blip r:embed="rId2"/>
          <a:stretch/>
        </p:blipFill>
        <p:spPr>
          <a:xfrm>
            <a:off x="7888320" y="115920"/>
            <a:ext cx="679320" cy="5540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6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3"/>
          </p:nvPr>
        </p:nvSpPr>
        <p:spPr>
          <a:xfrm>
            <a:off x="1116000" y="142560"/>
            <a:ext cx="3098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Präsentationstitel · 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20720" y="3203640"/>
            <a:ext cx="7810560" cy="25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Supplementary Vid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zur Dissertation von Andreas Schaup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it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Eph Receptor Clustering is the Central Integrator in Eliciting Graded Kinase-dependent Signaling Responses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ntent (please click)</a:t>
            </a: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786600" y="1484280"/>
            <a:ext cx="52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supplementary video 1 : confocal time-lapse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792000" y="242100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supplementary video 2 : homo-FRET time-lapse imaging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upplementary video 1</a:t>
            </a: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4427640" y="3213000"/>
            <a:ext cx="396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HeLa cells were transfected with wtEphB2-3FKBP-YFP/myr-mCherry and stimulated with AP20187 (250 nM) immediately before start of confocal time-lapse acquisition. Acquisition 1 frame/min. FL intensity is shown. Scale bar, 10 µ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4451040" y="566100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back to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SupplementaryVideo1_wtEphB23FKBP_AP20187.avi" descr=""/>
          <p:cNvPicPr/>
          <p:nvPr/>
        </p:nvPicPr>
        <p:blipFill>
          <a:blip r:embed="rId1"/>
          <a:stretch/>
        </p:blipFill>
        <p:spPr>
          <a:xfrm>
            <a:off x="720720" y="1125360"/>
            <a:ext cx="2736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58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upplementary video 2</a:t>
            </a: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508720" y="2781360"/>
            <a:ext cx="34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COS-7 cells were transfected with kdEphB2-3FKBP-mGFP and stimulated with AP20187 (250 nM) 1 min after start of epiFL time-lapse acquisition (frame 2). Acquisition 1 frame/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FL anisotropy is shown according to color code to the right. Scale bar, 10 µm.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alculation of anisotropy values was carried out by Ola Sabet, MPI Dortmund, Ger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5532120" y="602136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back to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SupplementaryVideo2_kdEphB2-3FKBP_AP20187.avi" descr=""/>
          <p:cNvPicPr/>
          <p:nvPr/>
        </p:nvPicPr>
        <p:blipFill>
          <a:blip r:embed="rId1"/>
          <a:stretch/>
        </p:blipFill>
        <p:spPr>
          <a:xfrm>
            <a:off x="720720" y="1844640"/>
            <a:ext cx="4464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150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5:18:47Z</dcterms:created>
  <dc:creator>haaknakat</dc:creator>
  <dc:description/>
  <dc:language>en-US</dc:language>
  <cp:lastModifiedBy>schaupp</cp:lastModifiedBy>
  <dcterms:modified xsi:type="dcterms:W3CDTF">2011-11-24T17:54:31Z</dcterms:modified>
  <cp:revision>1199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4B08022A81F59429C1B4FD285F0426C</vt:lpwstr>
  </property>
</Properties>
</file>