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F2A-20A7-49D3-999E-543D7933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2DC-CD5E-47AF-9C10-285D00DA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871-E536-4BA2-82E5-24052DF4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3BD-CB33-40B5-9E1D-0346BBBF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ACF2-5BE3-44F6-A610-B97AE891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9C53-4EC4-416B-BFDE-5B76D850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0CF3-9192-4E5A-AE0C-C755F07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F425-9B76-4CD9-BDC1-76224FD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E387-78B8-40A1-ADEF-08E2A93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D026-DDC1-4AFD-BF7B-046383E7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0989-1D6E-45EF-B869-505BA79B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DA0-16FA-473A-9573-758BC633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239C-3A7F-4C8E-9EA5-01B63F6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41A0-BD68-48DA-930A-E8DC156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7A9-9C08-4D3C-8E78-22F3FCA1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BAD-F02E-4AC7-BF42-06214890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2313-5992-43CD-848E-DA5AEB36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D63-BCE3-434E-BEED-F3EDDDB4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7C8-297E-4970-95AF-7DDEBB42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571-CE70-4EF2-AB21-D8402B64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794-1DC2-4D39-8E36-F206E01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014-9CF9-4754-A420-AC68A7C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DD2-EE8D-4F76-ADDF-16049FA7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D5F-74AE-419F-87BB-89EB27C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864-92C9-474A-AFE4-1BA3E2679C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0745-FA5F-46D4-9217-0F5B714949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816360" cy="305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716360" y="2421000"/>
            <a:ext cx="3834000" cy="3066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5589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r Trans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5080" y="55832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h nach Trans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7020000" y="6453360"/>
            <a:ext cx="1511280" cy="288720"/>
          </a:xfrm>
          <a:custGeom>
            <a:avLst/>
            <a:gdLst>
              <a:gd name="textAreaLeft" fmla="*/ 18720 w 1511280"/>
              <a:gd name="textAreaRight" fmla="*/ 1492560 w 1511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112949" h="21600">
                <a:moveTo>
                  <a:pt x="0" y="0"/>
                </a:moveTo>
                <a:lnTo>
                  <a:pt x="112949" y="0"/>
                </a:lnTo>
                <a:lnTo>
                  <a:pt x="112949" y="21600"/>
                </a:lnTo>
                <a:lnTo>
                  <a:pt x="0" y="21600"/>
                </a:lnTo>
                <a:close/>
              </a:path>
              <a:path fill="lightenLess" w="112949" h="21600">
                <a:moveTo>
                  <a:pt x="0" y="0"/>
                </a:moveTo>
                <a:lnTo>
                  <a:pt x="112949" y="0"/>
                </a:lnTo>
                <a:lnTo>
                  <a:pt x="111550" y="1400"/>
                </a:lnTo>
                <a:lnTo>
                  <a:pt x="1400" y="1400"/>
                </a:lnTo>
                <a:close/>
              </a:path>
              <a:path fill="darken" w="112949" h="21600">
                <a:moveTo>
                  <a:pt x="112949" y="0"/>
                </a:moveTo>
                <a:lnTo>
                  <a:pt x="112949" y="21600"/>
                </a:lnTo>
                <a:lnTo>
                  <a:pt x="111550" y="20200"/>
                </a:lnTo>
                <a:lnTo>
                  <a:pt x="111550" y="1400"/>
                </a:lnTo>
                <a:close/>
              </a:path>
              <a:path fill="darkenLess" w="112949" h="21600">
                <a:moveTo>
                  <a:pt x="112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550" y="20200"/>
                </a:lnTo>
                <a:close/>
              </a:path>
              <a:path fill="lighten" w="112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mo schließ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22:24:13Z</dcterms:created>
  <dc:creator>Verena</dc:creator>
  <dc:description/>
  <dc:language>en-US</dc:language>
  <cp:lastModifiedBy>Johannes Clauss</cp:lastModifiedBy>
  <dcterms:modified xsi:type="dcterms:W3CDTF">2005-12-05T08:55:06Z</dcterms:modified>
  <cp:revision>9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