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848-3070-40E0-AEF2-C5FB5FFD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57C-6A9E-4EDB-9591-AC235A64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573-D37F-4E33-A6ED-4BA0157A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525-B724-4E11-A8B4-54E9B6D0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70BD-2567-4E60-AC47-2F85A9EA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B138-7533-4D2E-BA74-D5A47D1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11E4-C0A8-453F-BC60-D92AE972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B6B7-9C15-43BA-BD96-D6E0C665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ED9B-B68E-4E17-BA7F-E466EEBF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A7B3-7569-4715-9E37-405B510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E306-EA83-4110-B274-47F65CE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730-4849-4C1F-A633-108B14D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101B-0B5A-436B-A7E7-CC56016A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6217-F069-4F2E-B909-A0A6FC8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1B22-7899-4DBD-84B3-82DBD3CB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61EC-AAC9-480D-A130-01C8C682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1E76-8CBC-45FD-B46E-3D1F55E9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B27-CE8A-43B0-B1A5-61416E7A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873-131E-4998-A295-80A2DA3D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E1B-BE0A-4E67-9541-1845491D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CFB-40C8-43AB-A861-579E772C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916-5F71-4C7F-8D23-4F3F61DA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8D2-6193-4B62-BA28-7575A0D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0A6-E1DA-47DE-8EDE-558E1FEB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1325-8ACB-4FB1-80FE-6A84F62EA2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8B8-B104-4B56-9E77-1B4111E88F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16360" y="2421000"/>
            <a:ext cx="3834000" cy="3066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5589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r Trans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5080" y="55832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h nach Trans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7020000" y="6453360"/>
            <a:ext cx="1511280" cy="288720"/>
          </a:xfrm>
          <a:custGeom>
            <a:avLst/>
            <a:gdLst>
              <a:gd name="textAreaLeft" fmla="*/ 18720 w 1511280"/>
              <a:gd name="textAreaRight" fmla="*/ 1492560 w 1511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12949" h="21600">
                <a:moveTo>
                  <a:pt x="0" y="0"/>
                </a:moveTo>
                <a:lnTo>
                  <a:pt x="112949" y="0"/>
                </a:lnTo>
                <a:lnTo>
                  <a:pt x="112949" y="21600"/>
                </a:lnTo>
                <a:lnTo>
                  <a:pt x="0" y="21600"/>
                </a:lnTo>
                <a:close/>
              </a:path>
              <a:path fill="lightenLess" w="112949" h="21600">
                <a:moveTo>
                  <a:pt x="0" y="0"/>
                </a:moveTo>
                <a:lnTo>
                  <a:pt x="112949" y="0"/>
                </a:lnTo>
                <a:lnTo>
                  <a:pt x="111550" y="1400"/>
                </a:lnTo>
                <a:lnTo>
                  <a:pt x="1400" y="1400"/>
                </a:lnTo>
                <a:close/>
              </a:path>
              <a:path fill="darken" w="112949" h="21600">
                <a:moveTo>
                  <a:pt x="112949" y="0"/>
                </a:moveTo>
                <a:lnTo>
                  <a:pt x="112949" y="21600"/>
                </a:lnTo>
                <a:lnTo>
                  <a:pt x="111550" y="20200"/>
                </a:lnTo>
                <a:lnTo>
                  <a:pt x="111550" y="1400"/>
                </a:lnTo>
                <a:close/>
              </a:path>
              <a:path fill="darkenLess" w="112949" h="21600">
                <a:moveTo>
                  <a:pt x="112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550" y="20200"/>
                </a:lnTo>
                <a:close/>
              </a:path>
              <a:path fill="lighten" w="112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mo schließ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22:24:13Z</dcterms:created>
  <dc:creator>Verena</dc:creator>
  <dc:description/>
  <dc:language>en-US</dc:language>
  <cp:lastModifiedBy>Johannes Clauss</cp:lastModifiedBy>
  <dcterms:modified xsi:type="dcterms:W3CDTF">2005-12-05T08:55:06Z</dcterms:modified>
  <cp:revision>9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